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32B1-B8DB-4336-BC3D-BCBAF0AAFFB2}" type="datetime">
              <a:rPr b="0" lang="zh-CN" sz="1200" spc="-1" strike="noStrike">
                <a:solidFill>
                  <a:srgbClr val="000000"/>
                </a:solidFill>
                <a:latin typeface="Times New Roman"/>
                <a:ea typeface="Arial"/>
              </a:rPr>
              <a:t>26/7/30</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DBFFF-00A8-442E-A432-08762BC5D304}"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5CD2F-B608-4C48-9420-36DE62C088E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D8C60F-2349-4302-A3BC-88EAB0550F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702587-4A04-4AA6-B21B-12DABE8DFD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E340955-7A26-4154-B563-40702FC890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52DE721-7E65-46BB-807B-3B38047E3A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A537F6-A31C-46E5-8A89-7B364FFE70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87C0CE-8AE9-4EB2-BEC1-0139008209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043918-4DF8-4B77-A04B-438CF249BC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EB72CD-4408-4B79-AE37-C56B34BBFB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53A71C-F1F4-47CD-966E-D3F93088A2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BE3C00-29DB-45A4-AC67-09AFB2BD90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0FB4B2-DB24-4136-9651-7A2919A757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69C2D5-EF9B-477A-8809-42241D8C35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3889A3-C7AF-484F-8E01-DC4024CD51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4AB7CD-6BD8-44AA-8C7C-D756492412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C007AF-B320-457B-A590-C0550A56F0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3D7605-0F33-4540-850C-91C4E27E61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37454F-32B6-4BA8-B7A4-688B6F6458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F11DB7-6459-4D6A-8E11-BA7E3259EF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E8CEB3-88DE-4F03-A911-2274CCE0AA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3FE72FB-748B-4AB1-BE94-E22744A5FD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9A168B0-AA2A-4191-9A3A-1794F483E9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BF954F-4F61-4D55-99B6-7DA59A9981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EB54C7-C12E-4C47-9B0F-0148C3949A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22D1E3-80C2-43A5-AF89-00147412A0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EDDA6-33B5-48CF-ACAF-F15F560B278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DAEDE-CC0D-4D37-96C7-57ED47439EBE}"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